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DD5-2F78-423F-9FC4-E89F65A2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CDC-0751-4B64-B64D-B377057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AC5-96A7-4B5E-A5EB-964F2CF9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62F-4910-4B9D-A665-8A89DD97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D87-0C4C-4F42-962F-712E7AF6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756-43A0-4B6F-9FEC-7611E17B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1567-0DCF-46CE-9DBC-F44D442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850-9B6F-4101-98EB-85AE9C9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7FF-F298-4735-B10F-D6C9D2E2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024-1BD5-4D0D-B88A-3AB4F439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4B2-DDD6-4AA1-942C-0051AA45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433-F570-4670-AC0E-CB2E3FF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E0C-0187-4208-989F-56CA1C5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6BF4-8B47-46C2-9FA2-69A950A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75CD-ABBA-467D-B443-006A04F9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90BC-B077-46F0-B1B2-C0C673E5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0CD-0A8B-4F79-BBD0-9CE74F61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F89-0ACC-4DE5-B933-C5906D2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AF6-A644-41D4-9409-5BA3597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7D6-85E8-4301-B41E-C1A0CFF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49C-7329-4526-A020-29A10AE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E42-2E3C-4E10-8B23-7EA978C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715-92E5-4BE3-9CC3-27FF5CC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B5F-C3E9-47EF-9529-B9DC95B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166-65D5-4D8A-BDA4-C86E5AE4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956-D572-4B81-8E8F-E2EE2C067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evii clasei a IV- a prezint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FRUMUSETI CREATE DE NATUR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CHEILE TURZ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Membrii echipe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ad Elena Ana-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iu T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a 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a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i Vo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Ch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onator: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v. Natalia Z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chipa noastr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v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ă va conduce prin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Cheile Turzii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72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43400" y="22860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om prezenta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Scurtă d</a:t>
            </a: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scriere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Monotype Corsiva"/>
              </a:rPr>
              <a:t>Flora si fa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08080"/>
                </a:solidFill>
                <a:latin typeface="Monotype Corsiva"/>
              </a:rPr>
              <a:t>Turism şi sport în Cheile Turzii- colaje, des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xcursiile noastre 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în</a:t>
            </a: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 Cheile Turzii- fotograf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Harta mută- localizarea satului nost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Desenele noast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6600"/>
                </a:solidFill>
                <a:latin typeface="Arial"/>
              </a:rPr>
              <a:t>Harţi şicolaj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33:40Z</dcterms:created>
  <dc:creator>ws15</dc:creator>
  <dc:description/>
  <dc:language>en-US</dc:language>
  <cp:lastModifiedBy>a</cp:lastModifiedBy>
  <dcterms:modified xsi:type="dcterms:W3CDTF">2009-12-12T10:45:31Z</dcterms:modified>
  <cp:revision>6</cp:revision>
  <dc:subject/>
  <dc:title>Elevii clasei a IV- a prezinta</dc:title>
</cp:coreProperties>
</file>